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675-236E-450C-A73D-41E43B2C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F24-3701-4106-A57D-A0130C7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A2F-2761-4DD1-84E0-15EE2F6E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AB7-70EE-4FD0-BA9F-98DE6815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D16-049E-4814-8015-DDE1C3BF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BFE-0364-4C96-88F2-C4932ED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759-6F9A-4F23-8CC9-F4F75AAD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629-9E59-4580-A0E2-4A94B26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729-4D54-42CA-8B18-08A933C8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1EB-9E37-4767-98C4-C0FF8A6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870-2766-40D6-8D91-22F31D8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2E0-104D-4466-BD7E-D724F7B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7EFD-70FB-466D-B0DA-48B64FF4C1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3564000" y="2565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06:56:00Z</dcterms:modified>
  <cp:revision>810</cp:revision>
  <dc:subject/>
  <dc:title>Free PPT Backgrounds</dc:title>
</cp:coreProperties>
</file>